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8E8-B23C-4A5A-9CFE-831D4274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976-91C5-4D09-9BE0-8468EDE7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18E-5D6D-47DD-88DA-F380ACB9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7A2F-C9C1-4734-A074-BE950915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6B0-7F95-4D50-B7B0-6729D19B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BB4-49EE-4E3A-8D0D-16F9D09A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325-E79C-45BA-A230-486E1D22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195-E7B6-4002-94E0-DEA48246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735-3957-4A4B-8FC6-8045DE9A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47F-0EEC-4BB6-BD59-F272A7C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352-918A-47FA-8F06-0AE0A898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3B0-21FA-4362-A791-A7E84557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B3B8-98A7-4F3A-A29D-C42E3BF9F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ngle Congr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eremy Meyer, Justin Slager, Cody Rixford, Keith Bel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ruency is where two objects are equal to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s are congruent when they have the same number of sides, and all corresponding sides and interior angles are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Short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, Side, Side (s,s,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, Angle, Side (s,a,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, Side, Angle (s,s,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, Angle, Side (a,a,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, Side, Angle (a,s,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, Side,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ree sides of one triangle are congruent to three sides of another triangle, then the two triangles are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038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e that the triangles are congruent by the SSS postulate, the three pairs of sides need to be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28:57Z</dcterms:created>
  <dc:creator>010158</dc:creator>
  <dc:description/>
  <dc:language>en-US</dc:language>
  <cp:lastModifiedBy>010158</cp:lastModifiedBy>
  <dcterms:modified xsi:type="dcterms:W3CDTF">2008-04-24T16:48:09Z</dcterms:modified>
  <cp:revision>3</cp:revision>
  <dc:subject/>
  <dc:title>Slide 1</dc:title>
</cp:coreProperties>
</file>